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E09-EC27-417A-8508-93B135EA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DB5-B96B-4CAB-A419-6AFDC1BA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07D-C4FF-45D3-B47E-B31455A2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1B2-D373-4CF8-8481-6E3ADDBC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C37E-353A-429B-9918-9FBC7422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F2BD-D271-484C-95F6-47958A42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E8C5-FF08-4114-AA33-0853B409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6452-3663-44B3-87F5-DE7B26A0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A4E8-1999-402B-8D17-A5E08F2A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70E8-7E6C-4E09-ABF8-AA61AA9F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13FD-EF66-4942-8524-9BA13C6B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F19-F5F0-44C7-9AFD-B12DE8C9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C5F9-04A8-4D79-B917-5949861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1B22-AD56-4A70-9133-055D1C3F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0D1D-337F-47E2-9973-2362AE54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BBAD-150C-4D3C-B25F-00ADFB1C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58BE-287B-4D91-8A57-EDD6CD23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A0C-4A14-4AC1-B5E7-9267DB49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A66-E3DC-4A9E-95B1-92B18C87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70B-072F-446C-820E-DA5FD2CE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987-43C7-457A-94B3-93D2254A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BFF-3B92-4AF3-9B91-C791D3E6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A13-7ABA-4DA5-8E0D-4514E875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86F-8593-45BC-8960-0B5BBA3D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D351-06F5-429F-B3F3-AB081955B4A3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B698-B0CC-4CC1-B3E9-0A2D43424117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95280" y="2997360"/>
            <a:ext cx="8497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GZ kompakt 2011 – Dynamische Geo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GeoGebra 2D im Unterricht (Sek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1628640" cy="1659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2"/>
          <a:stretch/>
        </p:blipFill>
        <p:spPr>
          <a:xfrm>
            <a:off x="6300720" y="907920"/>
            <a:ext cx="15526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:\Dokumente und Einstellungen\Lehrpersonal\Eigene Dateien\Eigene Dateien Texte\Geogebra\Geogebra 2011 Neuwirt Vorträge Herbst\Spezielle Kurven\Astroide 1.png"/>
          <p:cNvPicPr/>
          <p:nvPr/>
        </p:nvPicPr>
        <p:blipFill>
          <a:blip r:embed="rId1"/>
          <a:stretch/>
        </p:blipFill>
        <p:spPr>
          <a:xfrm>
            <a:off x="-396720" y="1700280"/>
            <a:ext cx="6478560" cy="3301920"/>
          </a:xfrm>
          <a:prstGeom prst="rect">
            <a:avLst/>
          </a:prstGeom>
          <a:ln w="0">
            <a:noFill/>
          </a:ln>
        </p:spPr>
      </p:pic>
      <p:sp>
        <p:nvSpPr>
          <p:cNvPr id="86" name="Inhaltsplatzhalter 6"/>
          <p:cNvSpPr/>
          <p:nvPr/>
        </p:nvSpPr>
        <p:spPr>
          <a:xfrm>
            <a:off x="611280" y="620640"/>
            <a:ext cx="439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ezielle Kurven:</a:t>
            </a:r>
            <a:br>
              <a:rPr sz="3200"/>
            </a:br>
            <a:r>
              <a:rPr b="0" lang="de-DE" sz="2400" spc="-1" strike="noStrike">
                <a:solidFill>
                  <a:srgbClr val="ffffff"/>
                </a:solidFill>
                <a:latin typeface="Calibri"/>
              </a:rPr>
              <a:t>Astroide (Sternkur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haltsplatzhalter 6"/>
          <p:cNvSpPr/>
          <p:nvPr/>
        </p:nvSpPr>
        <p:spPr>
          <a:xfrm>
            <a:off x="4368960" y="627120"/>
            <a:ext cx="457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ptische Täuschungen:</a:t>
            </a:r>
            <a:br>
              <a:rPr sz="3200"/>
            </a:br>
            <a:r>
              <a:rPr b="0" lang="de-DE" sz="2400" spc="-1" strike="noStrike">
                <a:solidFill>
                  <a:srgbClr val="ffffff"/>
                </a:solidFill>
                <a:latin typeface="Calibri"/>
              </a:rPr>
              <a:t>Linienkrümmungen nach Hering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Optische Täuschung 1a"/>
          <p:cNvPicPr/>
          <p:nvPr/>
        </p:nvPicPr>
        <p:blipFill>
          <a:blip r:embed="rId2"/>
          <a:stretch/>
        </p:blipFill>
        <p:spPr>
          <a:xfrm>
            <a:off x="4305240" y="2060640"/>
            <a:ext cx="48387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4:31:37Z</dcterms:created>
  <dc:creator>BRG Petersgasse</dc:creator>
  <dc:description/>
  <dc:language>en-US</dc:language>
  <cp:lastModifiedBy>BRG Petersgasse</cp:lastModifiedBy>
  <dcterms:modified xsi:type="dcterms:W3CDTF">2011-11-17T21:20:48Z</dcterms:modified>
  <cp:revision>30</cp:revision>
  <dc:subject/>
  <dc:title>Folie 1</dc:title>
</cp:coreProperties>
</file>