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8C0-8730-402E-97BC-24B1A958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520-A1E4-47E3-BB17-8BCD9A66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DDD-95C2-4386-B347-681DC43C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D1C-E477-42DD-8036-E904644E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4649-F767-42C3-8C75-C3951B1D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F504-B13C-4CC5-AEAD-7A9DFD4F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980A-5E90-4083-AE62-7F0431A5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BD1D-7874-430D-87B3-89D18F4C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60B8-71C9-44AC-9369-50D1A0B7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4677-D85C-4593-92C9-C3E0EB6A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7AD6-57CF-4CF8-84C8-60BD8C7C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EC8-CFC2-414A-8BD1-4354EC32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C210-847E-4DBA-A685-1A1B049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706E-268C-44EB-ABEE-3629747A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F5C0-76D8-47C2-A39D-0B17B3B3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E585-52AF-4805-8D22-C83D5A2A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E50F-B71E-487F-8EA8-F6A99EB4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4D9-9853-49A8-BADE-2A973B41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912-F99C-4AA4-8906-60154DB3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65A-4266-4F31-9CB2-A030F026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F1E-B125-4A2D-9DF3-81C31705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313-79BA-4BA1-A412-83EE33C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400-D4BF-49B0-AEFA-CBCCE21E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9886-2F00-4632-B947-3FB291E8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CAA3-AD1D-4B52-927E-EA1839FCD8AC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3FB6-D324-472C-8CD8-4E872EF6DC01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95280" y="2997360"/>
            <a:ext cx="849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Tag der Geometrie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ernformen mit Libre CAD</a:t>
            </a: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1628640" cy="1659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2"/>
          <a:stretch/>
        </p:blipFill>
        <p:spPr>
          <a:xfrm>
            <a:off x="6300720" y="907920"/>
            <a:ext cx="1552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Sternformen 2"/>
          <p:cNvPicPr/>
          <p:nvPr/>
        </p:nvPicPr>
        <p:blipFill>
          <a:blip r:embed="rId1"/>
          <a:stretch/>
        </p:blipFill>
        <p:spPr>
          <a:xfrm>
            <a:off x="4270320" y="1989000"/>
            <a:ext cx="4873680" cy="3659400"/>
          </a:xfrm>
          <a:prstGeom prst="rect">
            <a:avLst/>
          </a:prstGeom>
          <a:ln w="0">
            <a:noFill/>
          </a:ln>
        </p:spPr>
      </p:pic>
      <p:sp>
        <p:nvSpPr>
          <p:cNvPr id="86" name="Inhaltsplatzhalter 6"/>
          <p:cNvSpPr/>
          <p:nvPr/>
        </p:nvSpPr>
        <p:spPr>
          <a:xfrm>
            <a:off x="611280" y="620640"/>
            <a:ext cx="381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ternformen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it 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Fadengraph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Inhaltsplatzhalter 6"/>
          <p:cNvSpPr/>
          <p:nvPr/>
        </p:nvSpPr>
        <p:spPr>
          <a:xfrm>
            <a:off x="4838760" y="601560"/>
            <a:ext cx="457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ternforme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durch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Transform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Sternformen 2"/>
          <p:cNvPicPr/>
          <p:nvPr/>
        </p:nvPicPr>
        <p:blipFill>
          <a:blip r:embed="rId2"/>
          <a:stretch/>
        </p:blipFill>
        <p:spPr>
          <a:xfrm>
            <a:off x="-541440" y="1628640"/>
            <a:ext cx="6093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4:31:37Z</dcterms:created>
  <dc:creator>BRG Petersgasse</dc:creator>
  <dc:description/>
  <dc:language>en-US</dc:language>
  <cp:lastModifiedBy>Admin</cp:lastModifiedBy>
  <dcterms:modified xsi:type="dcterms:W3CDTF">2013-04-09T06:20:51Z</dcterms:modified>
  <cp:revision>34</cp:revision>
  <dc:subject/>
  <dc:title>Folie 1</dc:title>
</cp:coreProperties>
</file>