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D11-CC92-4873-8A1D-FFB8E3D2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D0B-52FF-493F-B8DB-8AC668ED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CE3-6DA7-4E21-9394-F026A165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933-AFB5-4A7B-BDC9-62F24A71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A0F8-1C13-487C-B209-8D75BA92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30B0-02B2-42C1-B6D5-FC0C4B63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389A-9C21-46ED-8D63-04FF3BC6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7167-A186-48F6-B49F-A7B99A1B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E951-7E4B-48DD-8CD9-80FB8E98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263E-D414-4C5D-A852-CAAC453E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0BF2-CC51-4F13-939F-E98B2DDF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B86-861F-40F7-BA9A-7B8E0DBA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5515-8FA6-4D80-9991-356BE016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607B-CD69-4E1D-936F-75C73BF3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CA2C-2AB5-4C90-B6CD-A7D5607A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0C23-0045-4A39-9802-DEBEF49C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737A-E883-4944-8493-5B478597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A67-6E8C-4778-AFCB-A2CFB976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000-EC55-42F4-B7A4-3C930327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FE0-BAF9-4D85-95F4-9C89D4C5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683-FBF3-4484-B65C-307D2083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294-A286-4EAC-9DC5-C745CB69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49C-6EFC-4DC8-9983-55451025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4AF-B793-43E3-B6F7-4B30C1F6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10B0-F385-4603-86FD-0D1F9167A599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5909-2305-4AB3-AA48-66222EFCF496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ometrie.tugraz.at/tagdergeometrie/2013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5367" t="3809" r="0" b="0"/>
          <a:stretch/>
        </p:blipFill>
        <p:spPr>
          <a:xfrm>
            <a:off x="611280" y="907920"/>
            <a:ext cx="1296720" cy="1660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95280" y="386064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2060"/>
                </a:solidFill>
                <a:latin typeface="Calibri"/>
              </a:rPr>
              <a:t>Willkommen zum Tag der Geometrie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027160" y="2705040"/>
            <a:ext cx="410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FDZ FÜR MATHEMATIK 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ND GEOMET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-222120" y="271296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NETZWERK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TEIER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92720" y="2708280"/>
            <a:ext cx="410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ÄDAGOGISCHE HOCHSCHULE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TEIER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6" descr=""/>
          <p:cNvPicPr/>
          <p:nvPr/>
        </p:nvPicPr>
        <p:blipFill>
          <a:blip r:embed="rId2"/>
          <a:stretch/>
        </p:blipFill>
        <p:spPr>
          <a:xfrm>
            <a:off x="6443640" y="981000"/>
            <a:ext cx="1628640" cy="165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F:\GIG Flyer A5\Logos für den Flyer\m+g.jpg"/>
          <p:cNvPicPr/>
          <p:nvPr/>
        </p:nvPicPr>
        <p:blipFill>
          <a:blip r:embed="rId3"/>
          <a:stretch/>
        </p:blipFill>
        <p:spPr>
          <a:xfrm>
            <a:off x="2909880" y="1019160"/>
            <a:ext cx="242712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4360" y="907560"/>
            <a:ext cx="77752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060"/>
                </a:solidFill>
                <a:latin typeface="Calibri"/>
              </a:rPr>
              <a:t>Am Tag der Geometrie 2013 gibt es eine eigene Schiene für Grundschullehrer/innen.</a:t>
            </a:r>
            <a:br>
              <a:rPr sz="3200"/>
            </a:br>
            <a:r>
              <a:rPr b="0" lang="de-DE" sz="3200" spc="-1" strike="noStrike">
                <a:solidFill>
                  <a:srgbClr val="002060"/>
                </a:solidFill>
                <a:latin typeface="Calibri"/>
              </a:rPr>
              <a:t>Die Betreuung erfolgt durch Ingrid Perl vom Institut 3 der PH Steiermark. </a:t>
            </a:r>
            <a:br>
              <a:rPr sz="3200"/>
            </a:br>
            <a:r>
              <a:rPr b="0" lang="de-DE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060"/>
                </a:solidFill>
                <a:latin typeface="Calibri"/>
              </a:rPr>
              <a:t>Am Projekt „ </a:t>
            </a:r>
            <a:r>
              <a:rPr b="0" lang="de-AT" sz="3200" spc="-1" strike="noStrike">
                <a:solidFill>
                  <a:srgbClr val="002060"/>
                </a:solidFill>
                <a:latin typeface="Calibri"/>
              </a:rPr>
              <a:t>Geometrie im Kindergarten (GIK)“ </a:t>
            </a:r>
            <a:r>
              <a:rPr b="0" lang="de-DE" sz="3200" spc="-1" strike="noStrike">
                <a:solidFill>
                  <a:srgbClr val="002060"/>
                </a:solidFill>
                <a:latin typeface="Calibri"/>
              </a:rPr>
              <a:t> wird seit dem Sommer 2012 gearbeit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CIMG9098"/>
          <p:cNvPicPr/>
          <p:nvPr/>
        </p:nvPicPr>
        <p:blipFill>
          <a:blip r:embed="rId1"/>
          <a:srcRect l="0" t="0" r="534" b="12440"/>
          <a:stretch/>
        </p:blipFill>
        <p:spPr>
          <a:xfrm>
            <a:off x="4500720" y="2852640"/>
            <a:ext cx="4300560" cy="2836800"/>
          </a:xfrm>
          <a:prstGeom prst="rect">
            <a:avLst/>
          </a:prstGeom>
          <a:ln cap="rnd" w="28440">
            <a:solidFill>
              <a:srgbClr val="000000">
                <a:alpha val="63000"/>
              </a:srgbClr>
            </a:solidFill>
            <a:round/>
          </a:ln>
        </p:spPr>
      </p:pic>
      <p:sp>
        <p:nvSpPr>
          <p:cNvPr id="92" name=""/>
          <p:cNvSpPr txBox="1"/>
          <p:nvPr/>
        </p:nvSpPr>
        <p:spPr>
          <a:xfrm>
            <a:off x="684360" y="907920"/>
            <a:ext cx="7775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nhaltsplatzhalter 6"/>
          <p:cNvSpPr/>
          <p:nvPr/>
        </p:nvSpPr>
        <p:spPr>
          <a:xfrm>
            <a:off x="755640" y="907920"/>
            <a:ext cx="813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6" descr=""/>
          <p:cNvPicPr/>
          <p:nvPr/>
        </p:nvPicPr>
        <p:blipFill>
          <a:blip r:embed="rId2"/>
          <a:srcRect l="-322" t="4193" r="0" b="0"/>
          <a:stretch/>
        </p:blipFill>
        <p:spPr>
          <a:xfrm>
            <a:off x="611280" y="981000"/>
            <a:ext cx="2909880" cy="3917880"/>
          </a:xfrm>
          <a:prstGeom prst="rect">
            <a:avLst/>
          </a:prstGeom>
          <a:ln w="0">
            <a:noFill/>
          </a:ln>
        </p:spPr>
      </p:pic>
      <p:pic>
        <p:nvPicPr>
          <p:cNvPr id="96" name="Bild 15" descr="C:\Users\evahölzlmaria01\Pictures\2012-10-13 GIK\GIK 034.JPG"/>
          <p:cNvPicPr/>
          <p:nvPr/>
        </p:nvPicPr>
        <p:blipFill>
          <a:blip r:embed="rId3"/>
          <a:srcRect l="0" t="169" r="1291" b="0"/>
          <a:stretch/>
        </p:blipFill>
        <p:spPr>
          <a:xfrm>
            <a:off x="3521160" y="1017720"/>
            <a:ext cx="2968560" cy="2547720"/>
          </a:xfrm>
          <a:prstGeom prst="rect">
            <a:avLst/>
          </a:prstGeom>
          <a:ln cap="rnd" w="28440">
            <a:solidFill>
              <a:srgbClr val="1f497d">
                <a:alpha val="63000"/>
              </a:srgbClr>
            </a:solidFill>
            <a:round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20280" y="5904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2060"/>
                </a:solidFill>
                <a:latin typeface="Calibri"/>
              </a:rPr>
              <a:t>Beteiligte Institutionen:</a:t>
            </a: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de-DE" sz="3200" spc="-1" strike="noStrike">
                <a:solidFill>
                  <a:srgbClr val="002060"/>
                </a:solidFill>
                <a:latin typeface="Calibri"/>
              </a:rPr>
              <a:t>RFDZ für Mathematik und Geometrie und RN IMST Steier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060"/>
                </a:solidFill>
                <a:latin typeface="Calibri"/>
              </a:rPr>
              <a:t>Mentor: Norbert Holzer, K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2060"/>
                </a:solidFill>
                <a:latin typeface="Calibri"/>
              </a:rPr>
              <a:t>Ziel: </a:t>
            </a:r>
            <a:br>
              <a:rPr sz="3200"/>
            </a:br>
            <a:r>
              <a:rPr b="0" lang="de-DE" sz="3200" spc="-1" strike="noStrike">
                <a:solidFill>
                  <a:srgbClr val="002060"/>
                </a:solidFill>
                <a:latin typeface="Calibri"/>
              </a:rPr>
              <a:t>- Altersgemäße Aufgabenketten zu entwickeln</a:t>
            </a:r>
            <a:br>
              <a:rPr sz="3200"/>
            </a:br>
            <a:r>
              <a:rPr b="0" lang="de-DE" sz="3200" spc="-1" strike="noStrike">
                <a:solidFill>
                  <a:srgbClr val="002060"/>
                </a:solidFill>
                <a:latin typeface="Calibri"/>
              </a:rPr>
              <a:t>- Förderung von Entwicklungsrückständen</a:t>
            </a:r>
            <a:br>
              <a:rPr sz="3200"/>
            </a:br>
            <a:r>
              <a:rPr b="0" lang="de-DE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de-AT" sz="3200" spc="-1" strike="noStrike">
                <a:solidFill>
                  <a:srgbClr val="002060"/>
                </a:solidFill>
                <a:latin typeface="Calibri"/>
              </a:rPr>
              <a:t>systematischer Aufbau geometrischer Kompetenzen für diesen Altersbereich </a:t>
            </a:r>
            <a:br>
              <a:rPr sz="3200"/>
            </a:br>
            <a:r>
              <a:rPr b="0" lang="de-AT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4360" y="836640"/>
            <a:ext cx="7775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879480" y="816120"/>
            <a:ext cx="7383600" cy="52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4000" y="90792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6872400" cy="496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4000" y="90792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Die Fortbildungsreihe „Geometrie in der Grundschule“ (GIG) wird im nächsten Schuljahr in drei steirischen Bezirken durchgeführ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Download der Inhalte der Workshops unter</a:t>
            </a:r>
            <a:br>
              <a:rPr sz="32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eometrie.tugraz.at/tagdergeometrie/2013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Dank an das Institut für Geometrie und an das RFD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4:31:37Z</dcterms:created>
  <dc:creator>BRG Petersgasse</dc:creator>
  <dc:description/>
  <dc:language>en-US</dc:language>
  <cp:lastModifiedBy>BRG Petersgasse</cp:lastModifiedBy>
  <dcterms:modified xsi:type="dcterms:W3CDTF">2013-04-10T05:17:54Z</dcterms:modified>
  <cp:revision>43</cp:revision>
  <dc:subject/>
  <dc:title>Folie 1</dc:title>
</cp:coreProperties>
</file>